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13E-7244-4041-A3C5-546B18CB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D8F-DA88-469C-AD38-A0D633CE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64A-2672-4EB1-B7B7-ADAC7DD5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6F2-2BA3-46E5-8C28-6D122584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164-8256-44D1-AF68-8F5E3D98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F52-957C-4E82-A7DA-7684D884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712-86BC-41F3-A6C8-9237D34A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DBE-D34A-43C3-8C1D-B1999A4B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8B7-1DD3-4C56-9C5B-DF30BABE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378-28F0-44D1-8E67-F63A1DA5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6A9-FFD9-4A34-963A-46BE9C14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2AA-A305-4F79-83A4-BB6B7C07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3958-6772-45C0-A336-C989E9CC37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723920"/>
            <a:ext cx="521964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ن تعمّدت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56000" y="0"/>
            <a:ext cx="4788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إذا تصلّب قلبي، تعال إليّ بعصف من الأناشيد 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0"/>
            <a:ext cx="471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وإذا أعمت الشهوة عقلي بالوهم والغبا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تعال إليّ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يّها الساهر، بالبرق والرعود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عطاياكَ لا متناهية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دايَ صغيرتان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2100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أسكبْ، فسوفَ تفنى الأجيال،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بقى في يديَّ فرا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20:20:54Z</dcterms:created>
  <dc:creator>Charbel Azar</dc:creator>
  <dc:description/>
  <dc:language>en-US</dc:language>
  <cp:lastModifiedBy>-</cp:lastModifiedBy>
  <dcterms:modified xsi:type="dcterms:W3CDTF">2003-01-06T16:33:39Z</dcterms:modified>
  <cp:revision>3</cp:revision>
  <dc:subject/>
  <dc:title>يا من تعمّدت في ماء الأردن عمّدنا بالروح القدس والنار</dc:title>
</cp:coreProperties>
</file>